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1FB-7FAC-4FB7-8BC6-69260BD8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2C8-432C-4677-8030-2276883A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B06-D4F4-47FB-AB86-9BC0ED25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A12-48ED-43FB-8BF1-0DB0F519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5CB2-8A32-4B6E-AE6A-09445AC0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8253-C9BE-442E-8462-CCB7C577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1193-3E92-4625-8547-726ED017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A2F6-FBC3-4BE1-9EC0-EE104919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1DBD-F75E-40C3-8BD2-86530BD4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E1E5-C6DE-461C-970F-7F91EDBC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4107-9893-45DC-BE58-13054C49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C53-34A7-4069-80D4-ACEF5662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A856-0C06-4375-A0DC-23E516C8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48D6-6C64-444F-83A0-1D306F32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1558-2B21-406D-AB71-5EC1EE3A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54B5-0EFF-46BD-BF48-FAEB38B3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DA32-4E8F-4B2A-A4EA-697AB93D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97A-3489-4AAC-8D60-F75EBD46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CC9B-3FDD-4BD7-AE45-C5A456BE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E51-75C4-444E-8CD2-E927AD25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AD2-B7FC-49F1-9F1B-621E0CE5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9F3-D7CC-47FE-827B-4B40C7DC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A81-1235-4E1F-8B4A-455B8F2A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974-3B4D-4A74-B1D3-99BE498D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A0F7-636C-4AEF-8DF8-4F38D4B82D0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585C-1146-476D-A302-48EF8BEF5B4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istory1900s.about.com/od/worldwarii/a/hiroshima.htm" TargetMode="External"/><Relationship Id="rId2" Type="http://schemas.openxmlformats.org/officeDocument/2006/relationships/hyperlink" Target="http://en.wikipedia.org/wiki/World_War_II" TargetMode="External"/><Relationship Id="rId3" Type="http://schemas.openxmlformats.org/officeDocument/2006/relationships/hyperlink" Target="http://en.wikipedia.org/wiki/History_of_Germany_during_World_War_II" TargetMode="External"/><Relationship Id="rId4" Type="http://schemas.openxmlformats.org/officeDocument/2006/relationships/hyperlink" Target="http://en.wikipedia.org/wiki/Nazi_Germany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en.wikipedia.org/wiki/F&#252;hrer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orld War I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ra Peters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history1900s.about.com/od/worldwarii/a/hiroshima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en.wikipedia.org/wiki/World_War_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http://en.wikipedia.org/wiki/History_of_Germany_during_World_War_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http://en.wikipedia.org/wiki/Nazi_German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en.wikipedia.org/wiki/World_War_II_casualt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iki.answers.com/Q/How_many_people_died_in_World_War_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en.wikipedia.org/wiki/List_of_World_War_II_casualties_by_countr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secondworldwar.co.uk/casualty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en.wikipedia.org/wiki/United_States#World_War_I.2C_Great_Depression.2C_and_World_War_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World War II (WWII) started on September 1, 1939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e war officially started when Germany invaded Poland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fter Germany invaded, Great Britain and France declared war with Germany because of a treaty with Franc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5880" y="4952880"/>
            <a:ext cx="2057400" cy="1636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990720" y="4952880"/>
            <a:ext cx="1527120" cy="1676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581280" y="4952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 WWII, there were the ‘Axis’ and the Allies.’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x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rmany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pan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aly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unga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oman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lgar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viet Un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.S.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ritai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ran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olan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anad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ustral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ew Zealan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uth Afric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ugoslav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orwa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etherland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elgiu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Gree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5715000"/>
            <a:ext cx="41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*- Donates the three “Axis Powers.”  They were the main problem for the All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010280" y="1600200"/>
            <a:ext cx="1752840" cy="1081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10280" y="4114800"/>
            <a:ext cx="1752840" cy="1312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010280" y="5562720"/>
            <a:ext cx="1752840" cy="1166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7010280" y="2819520"/>
            <a:ext cx="17528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.S. Involv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ranklin D. Roosevelt was the president during the first part of WWI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arry Truman became president in the final year of the war.  He ordered the bomb to be dropped on Jap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ring Germany’s invasion of Poland and other surrounding countries, the U.S. was still neutral about the wa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U.S. was reluctant to enter the war because they didn’t want to waste lives, money, and resources on wa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U.S. didn’t enter the war until Japan bombed Pearl Harbor in 1941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U.S. was the only country to become richer from the war instead of poor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1789200" cy="1828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28600" y="4724280"/>
            <a:ext cx="1446120" cy="1805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191120" y="4648320"/>
            <a:ext cx="2590560" cy="1939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981080" y="4876920"/>
            <a:ext cx="19051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erman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43800" y="838080"/>
            <a:ext cx="1152360" cy="1524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olf Hitler became Chancellor of Germany on January 30, 193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tler was idolized a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Führe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(Leader) by the Nazi stat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was president from 1934-1945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uring the war, Germany had conquered most of Northern Africa and Europ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rmany was defeated on May 8, 1945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505320" y="5410080"/>
            <a:ext cx="205740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p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leader of Japan during WWII was Emperor Hirohit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U.S. entered WWII when Japan bombed Pearl Harbor on September 4, 194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pan gained control of many islands including: the Philippines, the Dutch East Indies, Burma and Malay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U.S. bombed Japan, and after the second Atom bomb, Japan surrender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486400" y="5257800"/>
            <a:ext cx="2209680" cy="1425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352680" y="5257800"/>
            <a:ext cx="1657440" cy="1419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143000" y="5257800"/>
            <a:ext cx="18003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om Bom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Atomic (Nuclear) Bomb was first used in WWII against Japan by the U.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re were two Atom bombs dropped in Japan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first was dropped on Hiroshima at 2:45 a.m. on August 6, 1945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first bomb was carried on Enola Gay (a B-29) aircraft bomber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second bomb was dropped on Nagasaki at 11:02 am on August 9, 1945, only 3 days after the first bomb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Another B-29, named Bock’s Car, was used to drop the second bomb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315200" y="4648320"/>
            <a:ext cx="1441440" cy="1904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952880" y="4952880"/>
            <a:ext cx="1981440" cy="1557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2666880" y="4952880"/>
            <a:ext cx="1981440" cy="1600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304920" y="4952880"/>
            <a:ext cx="213336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usal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There are many estimates, but the total causalities is about 50-80 millio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bout 61 million on the Allies side, and 11 million on the Axis sid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Civilian causalities vary from 40-52 million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There were about 22-25 million military death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6668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86728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fter the 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ter the war, Germany lost a fourth of its pre-war territories to Polan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try and maintain peace, the Allies formed the United Nations on October 24, 1945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end of WWII was the beginning of the Cold War between the U.S. and the Soviet Un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76720" y="47242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22:06:16Z</dcterms:created>
  <dc:creator>Craig and Kim Peterson</dc:creator>
  <dc:description/>
  <dc:language>en-US</dc:language>
  <cp:lastModifiedBy>Craig and Kim Peterson</cp:lastModifiedBy>
  <dcterms:modified xsi:type="dcterms:W3CDTF">2011-04-19T00:24:17Z</dcterms:modified>
  <cp:revision>3</cp:revision>
  <dc:subject/>
  <dc:title>Atomic Bomb</dc:title>
</cp:coreProperties>
</file>